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F63-A888-43B6-AE79-8B13F456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C6AB-8F96-40B7-B427-2D64165E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6CD1-11D9-43C5-8FA7-008A58B3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F9C-279A-47ED-ADC2-456F7147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E604-BABE-4334-9D41-B85F01B5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591-A2AB-43B0-87B1-7D5C842B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7EA4-5090-4D4C-A5AF-7EE7FE82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6344-41D7-4BB4-B879-04E90FF1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356-0E96-4055-8A28-1C703858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47AE-A31C-4DE4-8D31-F2432F58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1461-FCEA-4853-BCEF-55D7E0AB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685F-C3B2-45E0-8DF6-DFE2BCE4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649E-2C61-4470-9AC5-45DA4DC95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 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ek 1 – Lab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Use Case Dia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s what the main functionality of the system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ly cares for the system’s expected behavior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her t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don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e Case Diagram: Compon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ctor specifies a role that some external entity adopts when interacting with the system direct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represent a role played b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us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other sys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iece of hardw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ors may be both at input and output ends of a use ca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884320" y="4952880"/>
            <a:ext cx="4583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 Diagram: Compon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 C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s all the services required or performed by the ac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76520" y="3352680"/>
            <a:ext cx="3733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truct a use case diagram for a library management system. The system is used by the librarian, the assistant librarian and the clien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ibrarian, can add books, delete books, add clients, delete clients, list books, list clients, check in/out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assistant librarian has all the functionality of the librarian except for add/delete for books and cli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ents may only check in/out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 -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find the actor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ook for no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find the user cas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ook for ver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truct a use case diagram for a library management system. The system is used by the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libraria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assistant libraria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the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clie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ibrarian, can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add book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delete book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add clie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delete clie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list book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list clie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check in/out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assistant libraria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all the functionality of the librarian except for add/delete for books and cli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Clie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ay only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check in/out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043000" y="819000"/>
            <a:ext cx="50580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a use case diagram for an online travel agency system. A new user can create a new profile with a username and a password. This profile can be changed at any time if the user wants. The user logs to the system using his/her username and passwor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logging into the system, the user inquires about different flights. The user can book, change or cancel a flight reservation. This includes choosing a payment method, and making a pay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9:32:45Z</dcterms:created>
  <dc:creator>Soha</dc:creator>
  <dc:description/>
  <dc:language>en-US</dc:language>
  <cp:lastModifiedBy>Soha</cp:lastModifiedBy>
  <dcterms:modified xsi:type="dcterms:W3CDTF">2009-04-07T09:27:34Z</dcterms:modified>
  <cp:revision>6</cp:revision>
  <dc:subject/>
  <dc:title>Use Case Diagrams</dc:title>
</cp:coreProperties>
</file>